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E75-DFC5-4336-B8D0-768127E4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4EA-87DD-4099-9D5D-C0DCEC6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38D-DE3C-459A-84E9-2DE11191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030-2C00-47E3-960E-EEBABE05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AC00-E4E4-4D04-A29A-40290585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B17B-BBA6-4601-8288-B0AC262D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DF61-942C-45EF-934A-64ECBE3B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1F21-1291-469D-BD83-7C32F655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3FF3-D003-4EA1-B207-30FE9A98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8BA7-36E6-460F-AD4A-8384A37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EE84-FB3B-44CE-B49D-15D3EB8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59AF-C63F-4209-B460-2FC77EAD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801F-A48E-4078-8F19-567BD3BD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B78E-3DBB-4E0D-820C-81E724EC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3EF7-1570-46FA-AE31-7AE0B2F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014-01D1-4469-8107-F2AF29AF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941C-5749-4061-BB58-524F6E35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E49-2BBE-4994-A489-AA1EB9E2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7ED-9778-4085-850C-9B9B399C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EFB-DAEB-4C3B-AB5F-BBC4667D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09C-33CF-488C-9387-407F109F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F60-A04A-46E1-BF81-3665C7A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380-35FC-415C-96C3-3787DA73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EE8-5A5A-43E6-BFC4-7B358828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99D-3361-4CD2-BEBF-EBF5E8D4F1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FD9C-AB78-4B70-B306-8C2420A746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The%20Little%20Flame%20Dancer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Hollow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Lover%20Letter.doc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Icicles.doc" TargetMode="External"/><Relationship Id="rId3" Type="http://schemas.openxmlformats.org/officeDocument/2006/relationships/image" Target="../media/image1.png"/><Relationship Id="rId4" Type="http://schemas.openxmlformats.org/officeDocument/2006/relationships/hyperlink" Target="The%20Little%20Flame%20Dancer%20by%20Monika%20Balfanz.doc" TargetMode="External"/><Relationship Id="rId5" Type="http://schemas.openxmlformats.org/officeDocument/2006/relationships/image" Target="../media/image1.png"/><Relationship Id="rId6" Type="http://schemas.openxmlformats.org/officeDocument/2006/relationships/hyperlink" Target="Hatter%20Mad.doc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y Porfolio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y Monika Balfan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or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he Little Flame Danc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 prose); For this piece we had to take a poetry piece that we had written and morph it into a prose for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Hollow’s Forest;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n example of a short story.  My piece is a twist on the classical Alice in Wonderland story.  This piece is part one and part tw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Lover Let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; This is an example of a short short story.  We had to come up with a town legend and write a story about i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oem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Icicles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;  For this piece I just wanted to practice using personific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The Little Flame Dancer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;  This is my major poetry piece.  We worked on our poetry to practice editing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Hatter mad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Verdana"/>
              </a:rPr>
              <a:t>;  For this piece we practices compound word inversion for effec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2:36:42Z</dcterms:created>
  <dc:creator>Virginia Beach Public Schools</dc:creator>
  <dc:description/>
  <dc:language>en-US</dc:language>
  <cp:lastModifiedBy>Virginia Beach Public Schools</cp:lastModifiedBy>
  <dcterms:modified xsi:type="dcterms:W3CDTF">2008-05-30T12:52:28Z</dcterms:modified>
  <cp:revision>2</cp:revision>
  <dc:subject/>
  <dc:title>My Porfolio </dc:title>
</cp:coreProperties>
</file>